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26D-7D98-4782-B300-3A7E8AD4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6EF-F663-410E-BE25-0AE397F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2B6-349B-43B5-9ABE-6D9E2F6B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45A-5D2E-4178-A2CD-D39FE2D8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882-6444-4B4C-A20F-C9E49A25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760-CAD4-40E8-8C91-73C8252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9E3-D937-4374-93DF-A8575CD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B63-23C7-499B-9F30-67959C0A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C4E-DAB1-4A63-915F-F8841473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E20-BA56-41BA-97C2-C037473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A82-B3D1-4000-AB9E-CFF4DCF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7E0-207E-45D4-A721-555B4B6D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CC41-EB21-45F7-959F-4C8B721CB1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671560"/>
            <a:ext cx="5040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6:47Z</dcterms:modified>
  <cp:revision>587</cp:revision>
  <dc:subject/>
  <dc:title>Diapositiva 1</dc:title>
</cp:coreProperties>
</file>